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4134C-D931-4F4C-A0A8-3FEE02282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3EA5B-0D35-487D-941A-08B281C69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4383C-48BA-4A32-BD56-F69A5E757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B418-5841-4531-8DA5-E225B8C2F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AEE4-350D-46A0-B8F9-F2BBD741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C1F9-1C50-4B09-B9E0-39772CFAC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F713-537F-4E7E-9784-65BE886C5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5A75-A4A8-44CA-96B7-4EDC0EC88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C690-F7F5-4212-AAFC-F4F1E1DC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A42-906B-4FE4-AE36-40A93E687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5F5C-972D-47FE-B51A-B62F2CDB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6B3B7-9023-4EAC-B204-234C81DCC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B3B2A-C88D-4B2E-8312-B5A9CDF17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762120"/>
            <a:ext cx="9094680" cy="529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01:08:17Z</dcterms:created>
  <dc:creator>Laura</dc:creator>
  <dc:description/>
  <dc:language>en-US</dc:language>
  <cp:lastModifiedBy>Laura</cp:lastModifiedBy>
  <dcterms:modified xsi:type="dcterms:W3CDTF">2010-03-16T01:09:19Z</dcterms:modified>
  <cp:revision>1</cp:revision>
  <dc:subject/>
  <dc:title>Slide 1</dc:title>
</cp:coreProperties>
</file>